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663-6853-4C3C-8EC6-882F330D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C57-D1C4-4565-83E7-185EAB1E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4C8-9DE9-4FE2-B3E2-58D619AF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8A5-0615-4A67-B1AC-17934720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9D64-E732-41DE-94A9-26713A51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23A7-96BC-4813-B78F-99FF5EC5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D844-232A-4D65-984F-25BBD9F0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4628-D8C3-47E9-892C-B808C0A1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82F6-BC44-46D0-8FBE-15C815C9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6C2A-DDC5-4655-AE9E-E0B49502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E7FD-1925-49FB-9B4B-144D2F76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3A4-376D-4B27-8621-C4FD4459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F29C-C177-48A5-8042-E09582B6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E887-D1FB-4DB7-BC19-95BA09A2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5E8C-4DD5-40C6-AAB3-16BC205D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A80C-22A7-48BB-8471-8A858E6D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AA2F-0617-409E-8B5A-4218AEFA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EA8-D74B-4FDA-BD51-EE8B6762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ECA-FDD4-4F5C-83C0-E3371654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6F8-B58E-4F01-A745-EA0CDE77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638-6D17-43CB-964F-AAB843D4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449-F214-4DFF-BF74-96A48C70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680-3825-44AB-805C-47325B18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123-FC10-4287-9C56-43970F1C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7CD6-E9D4-400B-8F59-0432581CA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82C6-68F1-4932-A683-512B618FD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sson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 Initialize(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6139080" cy="341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8560" y="5029200"/>
            <a:ext cx="804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Sub Initialize, we have to set the beginning value of numCorrect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Incorrect to zero. The reason is plain to see. If someone took the test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de a score of 4 then another student took the score and made a 4 also,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age box would say that person got 8 instead of 4.  We must reset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of those two variab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 YourName(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5410440" cy="3471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70080" y="5141880"/>
            <a:ext cx="79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two kinds of dialog boxes that we use. One is a message box t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s something.  The other box is an Input box where we ask for inform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user. In this case, we are asking for information to be store in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 userName. In this case, we are asking for their na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 RightAnswer(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5533920" cy="3838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4040" y="5029200"/>
            <a:ext cx="815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subroutine is going to keep score and tell the person that we got the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. First we have to tak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mCorr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add one to score. Next, we 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ing to create another subroutine calle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ingWel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will give a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x. Finally,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ctivePresentation.SlideShowWindow.View.Nex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oes to the nex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 DoingWell(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800600" cy="4487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95040" y="1447920"/>
            <a:ext cx="364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I mention before we h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kinds of dialog boxes.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subroutine we are 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reate a message box. W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MsgBox to tell the 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reate a message box. T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must add ( ) and  qu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s. Any words inside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 " will be shown in the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x. You should also notice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n &amp; sign in the (). Th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s the computer that we want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other items to the mess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ase we want to add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Name to the messag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s never have " " ma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ound th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 WrongAnswer(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4524480" cy="5105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490720" y="1828800"/>
            <a:ext cx="3324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WrongAnswer is alm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ke Sub RightAnswer. Ex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going to add 1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Incorrect and we are 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write another subrout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led DoingPoor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ast statement in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routine moves to the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 DoingPoorly(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4491000" cy="5486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109480" y="2133720"/>
            <a:ext cx="364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we created a message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ing the user that he/she 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question. Again notice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ords inside the quo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s will appear in the box. Als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dd an &amp; sign and then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Na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ults - Sub Feedback(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47680" y="1600200"/>
            <a:ext cx="8896320" cy="228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9960" y="4419720"/>
            <a:ext cx="853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subroutine will tell the user how well he did. First, you will notice that we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essage box. It is going to pri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You g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message box. Then the 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 go to the variable numCorrect and place that value in the message box. Nex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pri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ut of in the message box. Third, we have the computer add the tw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les to get the total number of questions. Finally, it will put the userName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message bo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king the Quiz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520" y="1089000"/>
            <a:ext cx="6248160" cy="541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19280" y="1143000"/>
            <a:ext cx="212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, we w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reate an a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 and l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utton to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co GetStar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ter you click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utosha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oll up to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s and p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lank but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the mou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w the an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4120" y="48769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 is 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nking Action Butt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6343920" cy="4867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086600" y="1447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6320" y="1676520"/>
            <a:ext cx="238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ra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 Run Mar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sele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Star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drop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. Then click O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linked the butt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king Answer Butt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6249960" cy="4819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556680" y="2438280"/>
            <a:ext cx="23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on button and l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to WrongAnsw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click O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5029200" cy="2521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79920" y="4836960"/>
            <a:ext cx="78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menu bar at the top you will see the word Tools. Click your mouse 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s scroll down to Macro. Move the Mouse over and down to the w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king More Butt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5983560" cy="4952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7120" y="998640"/>
            <a:ext cx="3047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you just cre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the ctrl key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etter C to co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. Now us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rl key and the l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and paste 4 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s. All of the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s have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ong answer lin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right clicking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use on the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you want the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to be. Cho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on settings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rco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Answer. B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ing on the butto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an type letters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ut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dding More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73920" y="1789200"/>
            <a:ext cx="80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clicking on the extra button on your first question. Press Ctrl + X to cut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 from that slide.  Create a new slide and then press Ctrl + V to pas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. Click on the button then press Ctrl + C to copy the button. Now p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rl + V and paste 4 more buttons. We always keep the last button to m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next slide. Remember to change the button that you want to be correc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button and do a right click with the mouse.  Select action setting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change the macro to RightAnswer. Type A, B, C, and D on the but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 the same procedure until you are done with your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-533520" y="1523880"/>
            <a:ext cx="6153120" cy="4486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794920" y="1905120"/>
            <a:ext cx="313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 another action butto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time link the macro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dback and then press o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have just finished yo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iz. Try it ou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tting Secur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438280" y="1379520"/>
            <a:ext cx="4191120" cy="4032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91560" y="5715000"/>
            <a:ext cx="78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must change the security to low and the trusted Publishers both box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uld be click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rting Visual Basic Edit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5181840" cy="220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7560" y="5029200"/>
            <a:ext cx="72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word Tools again then scroll down to the word Marco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Visual Basic Edi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sual Basic Edit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392960" cy="4610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00680" y="6019920"/>
            <a:ext cx="59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word Insert and then select the word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riting Pro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037360" cy="3733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6080" y="5715000"/>
            <a:ext cx="74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rite our programs in box under the word General.  Let's get start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claring Variab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315200" cy="3048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7480" y="5065560"/>
            <a:ext cx="86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ord Dim tells the computer at we want to create a variable. Next we m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the variable. In the example above, the names are numCorrect, numIncorrec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userName.  Finally, we must tell the computer how we want to store the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s.  Integer means numbers. String means letters or 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rout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6726240" cy="297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24160" y="4913280"/>
            <a:ext cx="837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ubroutine in a small program that we use as a macro in PowerPoint. The w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tells the computer that we are going to create a mini program to run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rPoint.  After the word Sub we must name the program and rememb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must be one word.  You will also notice that after pressing enter th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 will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 GetStarted(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6726240" cy="2819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7360" y="4800600"/>
            <a:ext cx="856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run other subroutines in a subroutine. We are going to create tw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routines after this one. They are going to be Initialize and YourName. So to r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subroutines in a subroutine, we just type the names of the subrouti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for the line ActivePresentation.SlideShowWindow.View.Next.  This comm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s the computer to move to the next sl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4:15:57Z</dcterms:created>
  <dc:creator>jnatale</dc:creator>
  <dc:description/>
  <dc:language>en-US</dc:language>
  <cp:lastModifiedBy>jnatale</cp:lastModifiedBy>
  <dcterms:modified xsi:type="dcterms:W3CDTF">2009-02-18T19:06:47Z</dcterms:modified>
  <cp:revision>39</cp:revision>
  <dc:subject/>
  <dc:title>Simple Text</dc:title>
</cp:coreProperties>
</file>